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25A8-65B6-4705-81B9-AC2557A32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C14A-4824-41B0-A340-A1CE9798A6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egy (Marzano) Note taking skills.  Students have to be taught to take good notes.  There are many formats:  Informal outlines, webbing, combinations notes—each page is divided into three parts—left hand side is reserved for notes taken using informal outlining, right-handed side is reserved notes taken using webbing and the bottom of the page is reserved for summary statements.  (Page 48 in Marzano for exam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3F39-E521-49CE-9DEB-D7EC09089A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students the importance of believing in effort.  Michael Jordan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B594-C0FB-4FD6-B3F5-C5FA686437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Language:  The Very Hungry Caterpillar--See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ve 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s whose meanings are known well enough to an individual that he or she would feel comfortable using them while writing or speaking. A person's expressive vocabulary is generally smaller than the receptive, or listening vocabulary, which includes words whose meanings may be only partially underst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6584-A059-45A0-8049-D4936D877A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B172-B6B8-498E-AA53-09041A348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7BF5-B2EA-43AA-BA4D-2077B53D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AD84-2A11-4575-9AC4-DF9431A6C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43FA-5423-4284-9A6E-0FA8D1AE9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867F-46EC-46FF-AAC1-01C45693C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A001-5F9F-4F6C-AC20-3B72E804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09D1-07AD-4F4B-8BF8-F6E0BF80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FDA1-1CBC-4DD7-9F99-CCDC3E98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712B-093E-4EF4-BB46-D3A6F7F8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F06D-8B1C-4C96-A0EA-0C10207C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0267-9F35-47C6-B1E7-8F354976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FA10-5B2B-4150-829B-7C33449D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E7AD-8DDD-453B-B982-E9342BC1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FD4A-8BAF-40DA-BE16-B88536CA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D186-3BEF-41AE-B2F5-D5458F37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3DBB-BC7A-4A45-A33D-56F175882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A3F3-9DB1-49AA-9D90-A79FEB7F0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044E-E8A7-48A5-987C-6B80BA5B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FA2E-B12D-47BD-A90A-30A9F2A6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A9C0-9AA7-417D-9B7B-1C11E13A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B03C-A97C-4F8C-9EAD-AF9DA3EE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9DB3-EE61-4D65-8881-26398703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2316-D9EE-42D6-8527-41AEB230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7870-9D22-488E-966B-34CF737E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8A20-C25E-4852-84AE-C99F315E4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7E72-54C1-4F52-91B3-5A570E0EFD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Language Acquisition Theory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HS ALP PL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6"/>
          <p:cNvSpPr/>
          <p:nvPr/>
        </p:nvSpPr>
        <p:spPr>
          <a:xfrm>
            <a:off x="152280" y="1905120"/>
            <a:ext cx="8077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Pre-production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udent points to the picture of a/the correct answ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udent draws a picture illustrating a concep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udent matches item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udent acts out/demonstrates answe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Early Production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udent names answ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udent matches one-word labels to answ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udent states answers orall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udent groups item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udent responds to W (Who, What, When, Where) and yes/no questio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ssessment Techniques by language Acquisition Stag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0" y="1371600"/>
            <a:ext cx="87631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Speech Emergenc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call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telling and resta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fin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xplain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mpar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mmarizing and repor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swering “how” and “why” questio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redic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Intermediate Fluency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xplaining how and answer was achieved (oral and writte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ssay wri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xpressing opinions and judgm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sing figurative language (oral and writte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alyzing and explaining data (oral and writte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088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ssessment Techniques by language Acquisition Stag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7"/>
          <p:cNvSpPr/>
          <p:nvPr/>
        </p:nvSpPr>
        <p:spPr>
          <a:xfrm>
            <a:off x="1698480" y="1058760"/>
            <a:ext cx="447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304920" y="0"/>
            <a:ext cx="8534160" cy="67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Accultur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Acculturation is the process of adjusting to a new place, situation, or language.  Your ESL students will experience acculturation on many levels -- to the United States, to English, to American culture, to school -- the possibilities are endless.  Knowing the stages of acculturation and what ESL students go through will help you understand them much better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Stage 1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Euphori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-excitement, enthusiasm and optimism for everything in the host cultur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Stage 2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ulture Shock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-negativity ranging from irritability to hostility, from anxiety to outright panic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-similar to the stages of grief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Stage 3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Anomi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-gradual recovery of equilibrium and objectivity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-acknowledgment of positive and negative aspects of both culture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-identity crisis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Stage 4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Assimilation or Adoptio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-acceptance of new cultur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-recovery of self-confidence and identity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Basic BICS—2 Years to Develop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asic Interpersonal Communication Skills-BIC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cial ski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ce-to-face Intera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veloped through exposure to English speaking peers, TV, and schoo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sonality variables—motivation, self-esteem, confid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is is the daily oral language students use to communicate in the new langua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Cognitive CALP—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5-7 Years to Develop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gnitive Academic Language Proficiency-CAL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ademic ski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teracy related language ski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ed through reading comprehension, writing ability, higher order thinking ski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mary language development influenti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Natural Order Hypothesi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erage order of acquisition occurs reliab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rammatical structures are acquired in a predictable order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quisition of the first language and acquisition of a second language are not done at the same ra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re-produc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rst they lis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ually a Non-English Speaker or very limited based on IPT Tests—IPT Tests will be previewed lat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udent responds non-verbal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me:  10 hours to 6 month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00 Receptive words (words they understand in English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CS are developing (playground languag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arly Produc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tinued Listen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ually a Limited English Speaker based on IPT Te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udent responds with one or two words and non-verbal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me:  3.6 months to 1 ye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,000 receptive wor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% of vocabulary is expressi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tinued BICS develop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peech Emergenc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ually a Limited English Speaker to a fluent speaker based on IPT Te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y errors in speech patterns but the meaning is cl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me:  1-2 yea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,000 receptive wor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% of vocabulary is express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inued BICS develop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Intermediate Fluenc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y seem fluent (based on IPT) but needs to expand vocabulary and CAL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gages in dialog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me:  3-4 yea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2,000 receptive wor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% of vocabulary is express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LP develop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19:01:06Z</dcterms:created>
  <dc:creator>Jeanette Christenson</dc:creator>
  <dc:description/>
  <dc:language>en-US</dc:language>
  <cp:lastModifiedBy>Box Elder School District</cp:lastModifiedBy>
  <dcterms:modified xsi:type="dcterms:W3CDTF">2012-09-17T17:20:23Z</dcterms:modified>
  <cp:revision>34</cp:revision>
  <dc:subject/>
  <dc:title>Language Acquisition Theory</dc:title>
</cp:coreProperties>
</file>